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21.gif" ContentType="image/gif"/>
  <Override PartName="/ppt/media/image19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33F6-642D-4C23-A105-1DC119B25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96B1-6B79-4E17-938E-51C346BE9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F9E3-7CDF-4EFB-B923-5C7275AFB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BD28-DF14-46B0-AF4D-66841F985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5E12-DE3B-4213-9A67-2B348471C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ED60-DE73-47E5-BE28-1AAE3D3B0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75C5-54E0-49E6-8969-4E0F504C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A4F7-598E-4BFF-BA86-40E4D05B6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6346-30A3-4833-ABF0-E52215C63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188B-4036-4A36-A1C4-2C2B838E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8629-3106-480E-B84D-DA316A6E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D34E-6A85-4135-8F48-E5483D0C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9C719-BC9B-4429-9EAD-CDEDC56193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otvoyna.ru/voina.htm" TargetMode="External"/><Relationship Id="rId2" Type="http://schemas.openxmlformats.org/officeDocument/2006/relationships/hyperlink" Target="http://stat17.privet.ru/lr/091351af80f2cbd5254237b67c110c66" TargetMode="External"/><Relationship Id="rId3" Type="http://schemas.openxmlformats.org/officeDocument/2006/relationships/hyperlink" Target="http://im7-tub.yandex.net/i?id=30045746-22-24" TargetMode="External"/><Relationship Id="rId4" Type="http://schemas.openxmlformats.org/officeDocument/2006/relationships/hyperlink" Target="http://backup.flot.com/upload/blog/267/yungi11_8.jpg" TargetMode="External"/><Relationship Id="rId5" Type="http://schemas.openxmlformats.org/officeDocument/2006/relationships/hyperlink" Target="http://alter.gorod.tomsk.ru/uploads/34629/1274034986/3.jpg" TargetMode="External"/><Relationship Id="rId6" Type="http://schemas.openxmlformats.org/officeDocument/2006/relationships/hyperlink" Target="http://s48.radikal.ru/i119/1010/5e/31c96a5b2231.jpg" TargetMode="External"/><Relationship Id="rId7" Type="http://schemas.openxmlformats.org/officeDocument/2006/relationships/hyperlink" Target="http://s007.radikal.ru/i300/1011/51/7d17f075434d.jpg" TargetMode="External"/><Relationship Id="rId8" Type="http://schemas.openxmlformats.org/officeDocument/2006/relationships/hyperlink" Target="http://www.davno.ru/posters/1942/img/poster-1942h.jpg" TargetMode="External"/><Relationship Id="rId9" Type="http://schemas.openxmlformats.org/officeDocument/2006/relationships/hyperlink" Target="http://www.vkinobudke.ru/uploads/posts/2010-11/1289407185_12_1.jpg" TargetMode="External"/><Relationship Id="rId10" Type="http://schemas.openxmlformats.org/officeDocument/2006/relationships/hyperlink" Target="http://young.rzd.ru/dbmm/images/41/4080/1196513" TargetMode="External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foto/b/2/151/2009151/f_9835168.jpg" TargetMode="External"/><Relationship Id="rId2" Type="http://schemas.openxmlformats.org/officeDocument/2006/relationships/hyperlink" Target="http://static.diary.ru/userdir/2/7/7/5/277573/41356204.jpg" TargetMode="External"/><Relationship Id="rId3" Type="http://schemas.openxmlformats.org/officeDocument/2006/relationships/hyperlink" Target="http://s51.radikal.ru/i131/1008/00/efaf29245e9c.jpg" TargetMode="External"/><Relationship Id="rId4" Type="http://schemas.openxmlformats.org/officeDocument/2006/relationships/hyperlink" Target="http://img0.liveinternet.ru/images/attach/c/2/65/396/65396297_1287263467_okop.jpg" TargetMode="External"/><Relationship Id="rId5" Type="http://schemas.openxmlformats.org/officeDocument/2006/relationships/hyperlink" Target="http://www.print.spb.ru/img/wysiwyg/orders/kutuzov/stalingrad/594.jpg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Великая Отечественная война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1941 - 194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3" descr="091351af80f2cbd5254237b67c110c66"/>
          <p:cNvPicPr/>
          <p:nvPr/>
        </p:nvPicPr>
        <p:blipFill>
          <a:blip r:embed="rId1"/>
          <a:stretch/>
        </p:blipFill>
        <p:spPr>
          <a:xfrm>
            <a:off x="250920" y="2639880"/>
            <a:ext cx="51847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4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2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4229280" cy="6048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"/>
          <p:cNvPicPr/>
          <p:nvPr/>
        </p:nvPicPr>
        <p:blipFill>
          <a:blip r:embed="rId2"/>
          <a:stretch/>
        </p:blipFill>
        <p:spPr>
          <a:xfrm>
            <a:off x="4716360" y="333360"/>
            <a:ext cx="418968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395280" y="4173480"/>
            <a:ext cx="3456000" cy="2279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"/>
          <p:cNvPicPr/>
          <p:nvPr/>
        </p:nvPicPr>
        <p:blipFill>
          <a:blip r:embed="rId2"/>
          <a:stretch/>
        </p:blipFill>
        <p:spPr>
          <a:xfrm>
            <a:off x="4284720" y="333360"/>
            <a:ext cx="45972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0728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День Победы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8064360" cy="56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7" descr="rajon_gerdevka2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2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Минута молча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мнит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рез века, через года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мнит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тех, кто уже не придет никогда,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мнит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ю ценою завоевано счастье, – заклинаю,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мнит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Р. Рождественск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4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сыл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  <a:hlinkClick r:id="rId1"/>
              </a:rPr>
              <a:t>http://www.otvoyna.ru/voina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otvoyna.ru/partiz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чный огонь - </a:t>
            </a: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  <a:hlinkClick r:id="rId2"/>
              </a:rPr>
              <a:t>http://stat17.privet.ru/lr/091351af80f2cbd5254237b67c110c6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локада Ленинграда -  </a:t>
            </a: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  <a:hlinkClick r:id="rId3"/>
              </a:rPr>
              <a:t>http://im7-tub.yandex.net/i?id=30045746-22-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олёты - </a:t>
            </a: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  <a:hlinkClick r:id="rId4"/>
              </a:rPr>
              <a:t>http://backup.flot.com/upload/blog/267/yungi11_8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ылу - </a:t>
            </a: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  <a:hlinkClick r:id="rId5"/>
              </a:rPr>
              <a:t>http://alter.gorod.tomsk.ru/uploads/34629/1274034986/3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ртизаны - </a:t>
            </a: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  <a:hlinkClick r:id="rId6"/>
              </a:rPr>
              <a:t>http://s48.radikal.ru/i119/1010/5e/31c96a5b2231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акат «Всё для фронта, всё для победы!» - </a:t>
            </a: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  <a:hlinkClick r:id="rId7"/>
              </a:rPr>
              <a:t>http://s007.radikal.ru/i300/1011/51/7d17f075434d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акат «Смерть немецким оккупантам» - </a:t>
            </a: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  <a:hlinkClick r:id="rId8"/>
              </a:rPr>
              <a:t>http://www.davno.ru/posters/1942/img/poster-1942h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рестская крепость - </a:t>
            </a: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  <a:hlinkClick r:id="rId9"/>
              </a:rPr>
              <a:t>http://www.vkinobudke.ru/uploads/posts/2010-11/1289407185_12_1.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шисты и советские женщины и дети -  - </a:t>
            </a: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  <a:hlinkClick r:id="rId10"/>
              </a:rPr>
              <a:t>http://young.rzd.ru/dbmm/images/41/4080/11965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сыл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45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й на реке - </a:t>
            </a:r>
            <a:r>
              <a:rPr b="0" lang="ru-RU" sz="1800" spc="-1" strike="noStrike" u="sng">
                <a:solidFill>
                  <a:srgbClr val="3333cc"/>
                </a:solidFill>
                <a:uFillTx/>
                <a:latin typeface="Arial"/>
                <a:hlinkClick r:id="rId1"/>
              </a:rPr>
              <a:t>http://img1.liveinternet.ru/images/foto/b/2/151/2009151/f_9835168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нковое сражение - </a:t>
            </a:r>
            <a:r>
              <a:rPr b="0" lang="ru-RU" sz="1800" spc="-1" strike="noStrike" u="sng">
                <a:solidFill>
                  <a:srgbClr val="3333cc"/>
                </a:solidFill>
                <a:uFillTx/>
                <a:latin typeface="Arial"/>
                <a:hlinkClick r:id="rId2"/>
              </a:rPr>
              <a:t>http://static.diary.ru/userdir/2/7/7/5/277573/41356204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мецкие офицеры - </a:t>
            </a:r>
            <a:r>
              <a:rPr b="0" lang="ru-RU" sz="1800" spc="-1" strike="noStrike" u="sng">
                <a:solidFill>
                  <a:srgbClr val="3333cc"/>
                </a:solidFill>
                <a:uFillTx/>
                <a:latin typeface="Arial"/>
                <a:hlinkClick r:id="rId3"/>
              </a:rPr>
              <a:t>http://s51.radikal.ru/i131/1008/00/efaf29245e9c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тва за Смоленск, 1941 год - </a:t>
            </a:r>
            <a:r>
              <a:rPr b="0" lang="ru-RU" sz="1800" spc="-1" strike="noStrike" u="sng">
                <a:solidFill>
                  <a:srgbClr val="3333cc"/>
                </a:solidFill>
                <a:uFillTx/>
                <a:latin typeface="Arial"/>
                <a:hlinkClick r:id="rId4"/>
              </a:rPr>
              <a:t>http://img0.liveinternet.ru/images/attach/c/2/65/396/65396297_1287263467_okop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линградская битва - </a:t>
            </a:r>
            <a:r>
              <a:rPr b="0" lang="ru-RU" sz="1800" spc="-1" strike="noStrike" u="sng">
                <a:solidFill>
                  <a:srgbClr val="3333cc"/>
                </a:solidFill>
                <a:uFillTx/>
                <a:latin typeface="Arial"/>
                <a:hlinkClick r:id="rId5"/>
              </a:rPr>
              <a:t>http://www.print.spb.ru/img/wysiwyg/orders/kutuzov/stalingrad/594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сьмо солдата - http://sakhvesti.ru/p/gubved_04022010143204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сьмо - http://objb.altapress.ru/picture/cram_in/540/26055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рлин - http://www.graphiste-webdesigner.fr/abecedaire/diaporamas/images/p/photos/drapeau_russe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нь Победы - http://photobucket.com/albums/o257/Lesnoy/victory_day_05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имированная открытка «9МАЯ»  - http://gifzona.ru/i/9/9_may_18.g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"/>
          <p:cNvPicPr/>
          <p:nvPr/>
        </p:nvPicPr>
        <p:blipFill>
          <a:blip r:embed="rId1"/>
          <a:stretch/>
        </p:blipFill>
        <p:spPr>
          <a:xfrm>
            <a:off x="468360" y="0"/>
            <a:ext cx="831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3" descr=""/>
          <p:cNvPicPr/>
          <p:nvPr/>
        </p:nvPicPr>
        <p:blipFill>
          <a:blip r:embed="rId1"/>
          <a:stretch/>
        </p:blipFill>
        <p:spPr>
          <a:xfrm>
            <a:off x="179280" y="-33480"/>
            <a:ext cx="8820360" cy="689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6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3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0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1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8:59:21Z</dcterms:created>
  <dc:creator>Admin</dc:creator>
  <dc:description/>
  <dc:language>en-US</dc:language>
  <cp:lastModifiedBy>Артём</cp:lastModifiedBy>
  <dcterms:modified xsi:type="dcterms:W3CDTF">2014-11-05T18:42:11Z</dcterms:modified>
  <cp:revision>63</cp:revision>
  <dc:subject/>
  <dc:title>Слайд 1</dc:title>
</cp:coreProperties>
</file>